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BE85-A7CD-46E4-B304-9DA693F9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29C-8E99-43D7-B3C5-3C28570C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3AC-2461-4D58-827E-FCE211F0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1510-DB0C-4770-80B8-ACAB8718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E087-5DF4-4E7C-8F6C-99CBD9CE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C9CE-9575-4A1B-9A47-90A11800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446E-D6B0-4408-814C-9B58FA45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7C2-6ED5-4DDB-B880-E0916200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0D5-FFAA-4C91-9899-98405B5F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2509-4609-4A87-8402-B15B4028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019-CA79-4A21-8C3B-775800B8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2EF-F6AB-48E5-9AC3-13BF397F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EDEF-52C3-4F79-AF28-0C28001B148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Segnaposto contenuto 3" descr="screen shot angoli 3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egnaposto contenuto 3" descr="Cattur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08:55:46Z</dcterms:created>
  <dc:creator>Marika</dc:creator>
  <dc:description/>
  <dc:language>en-US</dc:language>
  <cp:lastModifiedBy>Marika</cp:lastModifiedBy>
  <dcterms:modified xsi:type="dcterms:W3CDTF">2013-11-02T17:24:17Z</dcterms:modified>
  <cp:revision>23</cp:revision>
  <dc:subject/>
  <dc:title>Diapositiva 1</dc:title>
</cp:coreProperties>
</file>