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D3A-348F-4580-B49F-35E21A80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C81-6D85-459C-8369-B94D68A8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4B9-4D45-4E30-94ED-E5529394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B1C-6A0A-4A68-A684-C0B7B2CE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463-5EDD-4386-976C-28041001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EDF-8411-49AC-A238-559971CA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5AB-63BE-43D2-82BF-A9192BAD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DD4-4605-45CF-BFE9-9C05138F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9F7-E6F7-4F31-90B0-7A9D39C0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50D-5826-4E38-8DFC-800AD7A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2E7-CB43-4CDF-9463-C4AD64BD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E41-C176-45C3-B0AD-3F504A2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0308-B1A1-4934-9E48-3B29F799919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3" descr="screen shot angoli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Cattu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8:55:46Z</dcterms:created>
  <dc:creator>Marika</dc:creator>
  <dc:description/>
  <dc:language>en-US</dc:language>
  <cp:lastModifiedBy>Marika</cp:lastModifiedBy>
  <dcterms:modified xsi:type="dcterms:W3CDTF">2013-11-02T17:24:17Z</dcterms:modified>
  <cp:revision>23</cp:revision>
  <dc:subject/>
  <dc:title>Diapositiva 1</dc:title>
</cp:coreProperties>
</file>