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956-EFC6-4324-B2FF-B00A1D3B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274-088E-40E4-A34C-2BAD38D4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8DB-9945-442B-BBAD-5D686CC4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F49-2989-4964-A9B7-D6C61293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258-A671-481E-9C85-C7DFD03E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C87-0F1E-4011-961D-78068067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8A2-22B8-477E-B444-BF0AF916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11D-CB07-446B-AB75-C7B01EB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7AB-1A88-41AE-8E64-A05560F5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5AC-4594-458E-A62D-13B71084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37A-FCB3-4317-829D-78FFADE6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467-92A5-4C23-A8A5-2E148F7A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612E-38D7-471F-B55E-14F0401D043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3" descr="screen shot angoli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Cattu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8:55:46Z</dcterms:created>
  <dc:creator>Marika</dc:creator>
  <dc:description/>
  <dc:language>en-US</dc:language>
  <cp:lastModifiedBy>Marika</cp:lastModifiedBy>
  <dcterms:modified xsi:type="dcterms:W3CDTF">2013-11-02T17:24:17Z</dcterms:modified>
  <cp:revision>23</cp:revision>
  <dc:subject/>
  <dc:title>Diapositiva 1</dc:title>
</cp:coreProperties>
</file>