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EF9-9FAF-4846-8E59-0E4EE967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C7B-DB3F-4ECE-A837-41231BDB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B04-3EC2-4850-9C5B-FAD681BF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13E-E380-4749-89B1-D22AF2ED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B2D-4816-4F4D-B498-1B344C9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292-1DA4-41FC-946F-47FD33BC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900-708E-432F-B758-C1E9D60B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0E5-49AA-4988-9E31-A0664F44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B5D-EA2F-46F7-8D43-45B75CB2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352-B7FD-4CCB-BFBF-1640687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BDB-8843-4457-96ED-CDAE00DE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854-063E-4ADD-9586-7D427DFA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DB33-78E7-4651-91FB-B08AE04AE49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3" descr="screen shot angoli 3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Cattu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8:55:46Z</dcterms:created>
  <dc:creator>Marika</dc:creator>
  <dc:description/>
  <dc:language>en-US</dc:language>
  <cp:lastModifiedBy>Marika</cp:lastModifiedBy>
  <dcterms:modified xsi:type="dcterms:W3CDTF">2013-11-02T17:24:17Z</dcterms:modified>
  <cp:revision>23</cp:revision>
  <dc:subject/>
  <dc:title>Diapositiva 1</dc:title>
</cp:coreProperties>
</file>