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BC04-58E6-43D0-B693-71ABE1C1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57A-8165-49DB-97AC-853AEA69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A66-A688-46CC-8F1F-7756C72F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0F8-C636-4E26-948A-D4E7D6ED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3CF-D887-48CC-A9D4-31A79BC5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6BF-B099-49AD-97F6-576C4751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E4CC-F7E8-4028-9173-18A72C88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6EC-1D03-410E-ABA7-CB02FE3A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4684-A778-42DE-AE7D-FCDD9444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B47-231D-43DC-BE67-4C9A22FE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B062-C91C-478E-8723-25CD5383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3975-676A-4A82-8471-A9DECB4E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E736-BDF9-47F9-B97E-48616C19343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Segnaposto contenuto 3" descr="screen shot angoli 3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egnaposto contenuto 3" descr="Cattu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8:55:46Z</dcterms:created>
  <dc:creator>Marika</dc:creator>
  <dc:description/>
  <dc:language>en-US</dc:language>
  <cp:lastModifiedBy>Marika</cp:lastModifiedBy>
  <dcterms:modified xsi:type="dcterms:W3CDTF">2013-11-02T17:24:17Z</dcterms:modified>
  <cp:revision>23</cp:revision>
  <dc:subject/>
  <dc:title>Diapositiva 1</dc:title>
</cp:coreProperties>
</file>