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94E-D3F8-492D-B17B-5C29CA87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566-0B3A-413D-84C1-ABD46ABF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99F-8DE8-437B-854B-DBCDBA84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E64-54B4-4D04-BFEA-5EF26527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014-87CA-45CD-916E-30929FB1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667-FA3D-417A-860C-9F8B6094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944-5832-44A4-AB47-E871C360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45D-365B-4D90-A523-7E051180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110-9677-4D9C-9249-C361BE80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4DC-E5A0-458A-8D57-DEBF457C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6AF-4002-4462-9EFC-A2982E4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D56-1A15-478F-B12B-519DE53F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ADEE-0A64-4863-BAEF-FA75A586E0B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3" descr="screen shot angoli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Cattu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8:55:46Z</dcterms:created>
  <dc:creator>Marika</dc:creator>
  <dc:description/>
  <dc:language>en-US</dc:language>
  <cp:lastModifiedBy>Marika</cp:lastModifiedBy>
  <dcterms:modified xsi:type="dcterms:W3CDTF">2013-11-02T17:24:17Z</dcterms:modified>
  <cp:revision>23</cp:revision>
  <dc:subject/>
  <dc:title>Diapositiva 1</dc:title>
</cp:coreProperties>
</file>