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A47-A0B7-43A1-B5D8-E128D5DB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ADD-1FF2-4FED-A3F2-8FA1B208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06E-2B2F-4D8B-937F-D898E7E4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E06-3F38-4C1C-9B7E-F55C13E5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840-959C-4FC7-8C8E-0DBDB8B3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54F-461F-4A57-B03E-65DFD02A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2656-B0BE-4F4C-B42F-3BC46B6E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524-4955-4B12-AB00-C154D1AE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6DA6-2F56-4E60-A2B9-6A307C76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220-FBAE-40B3-9F6D-0945B77E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641-1017-4850-9962-0C309178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81A1-54AC-40BC-8DDF-704BD17C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A5D2-7B23-4DE4-BD2D-A3B1E11BE35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08:56:12Z</dcterms:created>
  <dc:creator>Annalisa</dc:creator>
  <dc:description/>
  <dc:language>en-US</dc:language>
  <cp:lastModifiedBy>Annalisa</cp:lastModifiedBy>
  <dcterms:modified xsi:type="dcterms:W3CDTF">2013-11-07T12:00:01Z</dcterms:modified>
  <cp:revision>19</cp:revision>
  <dc:subject/>
  <dc:title>Diapositiva 1</dc:title>
</cp:coreProperties>
</file>