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EDC-3D83-44E2-BCA6-BC76713E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44F-740C-415F-8227-8E10F764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C5D-00A9-4853-971A-DF6CE177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9BD-DB43-4D8C-972F-D40E8BB6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47D-7AAB-4F56-BB33-A4576F67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F98-946F-422D-8E29-94B74232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F45-C0BD-4741-98B4-70EE824E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0B0-64F1-45D3-85ED-5AB9C411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485-E4C9-481E-B618-3C744FC2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671-042C-4C24-A01E-D5CECC86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BA6-58E6-41A5-B687-52163857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A8D-3A47-4549-8A7A-2D055905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068A-4D8F-4A80-8D81-320293C1FAF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0:47:50Z</dcterms:created>
  <dc:creator>Silvia Frigerio</dc:creator>
  <dc:description/>
  <dc:language>en-US</dc:language>
  <cp:lastModifiedBy>Silvia Frigerio</cp:lastModifiedBy>
  <dcterms:modified xsi:type="dcterms:W3CDTF">2013-10-24T11:13:03Z</dcterms:modified>
  <cp:revision>3</cp:revision>
  <dc:subject/>
  <dc:title>Diapositiva 1</dc:title>
</cp:coreProperties>
</file>