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811-64D8-4535-A9D9-3024702A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A54-3A5C-4B2E-97C2-60826D83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9B5-C5E6-4946-B39A-FBB9037F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B40-677F-4790-BCE1-7BC72CD5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7D9-63F6-423F-B45D-9BA1339A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FF6-1ADA-43E2-AA99-AB14C2D0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091-70B4-47E1-81B1-D76F8FA5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65A-5004-47D8-BF77-A65EBC98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FE3-1E65-43F0-B4F0-DBCF010D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FAE-07B0-4175-97C6-D497C1F4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BC3-6CDF-4D9A-8451-FF21135C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9FB-1975-4099-9E44-ED342FFC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EA61-6CC7-462E-90DA-A6F4E1CB8A5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0:47:50Z</dcterms:created>
  <dc:creator>Silvia Frigerio</dc:creator>
  <dc:description/>
  <dc:language>en-US</dc:language>
  <cp:lastModifiedBy>Silvia Frigerio</cp:lastModifiedBy>
  <dcterms:modified xsi:type="dcterms:W3CDTF">2013-10-24T11:13:03Z</dcterms:modified>
  <cp:revision>3</cp:revision>
  <dc:subject/>
  <dc:title>Diapositiva 1</dc:title>
</cp:coreProperties>
</file>