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401-AFCF-4F58-93AB-6DCC1B34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6A3-7247-4FF7-8C66-C2C4ABA8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85B-8B72-4089-8F4B-C49AC9C3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F39-4682-4032-855F-C551779B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A21-0814-406A-88B5-CFDCFACE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D69-A449-4506-99ED-079EA771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309-0783-460D-AE61-02933238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565-7F84-4B9C-BDB6-EB7E4796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6E1-4D55-42F2-899D-AAB7E3EF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CBE-AD17-49B1-8D3E-9435DED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468-C22C-4B26-810F-6639A7AE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194-8355-41BD-9CF0-DCB56152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9D39-CEE3-4966-8D58-1BC07BBC7A5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0:47:50Z</dcterms:created>
  <dc:creator>Silvia Frigerio</dc:creator>
  <dc:description/>
  <dc:language>en-US</dc:language>
  <cp:lastModifiedBy>Silvia Frigerio</cp:lastModifiedBy>
  <dcterms:modified xsi:type="dcterms:W3CDTF">2013-10-24T11:13:03Z</dcterms:modified>
  <cp:revision>3</cp:revision>
  <dc:subject/>
  <dc:title>Diapositiva 1</dc:title>
</cp:coreProperties>
</file>