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2E3-B63B-4AE9-829D-971840F8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2AB-B667-45DB-B194-297E3704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ED1-E435-4C1E-9EAF-647538C2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0D8-42C7-45DF-A9D4-043E6422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539-6F1C-4D6F-90F1-1219808C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835-B92C-4E8A-B4E5-327928F7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B8E-21E4-4F7E-884E-88120790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56A-8043-4BBD-915D-0D31BCE6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745-4309-49D8-A359-54CA9F75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CED-5A03-4EDD-8F88-9C48C001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201-0465-49B1-A423-E0E1280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019-5DED-424C-BF0D-5F6A8B6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D380-4E0B-4C16-AE2D-A16A1270A16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56:12Z</dcterms:created>
  <dc:creator>Annalisa</dc:creator>
  <dc:description/>
  <dc:language>en-US</dc:language>
  <cp:lastModifiedBy>Annalisa</cp:lastModifiedBy>
  <dcterms:modified xsi:type="dcterms:W3CDTF">2013-11-07T12:00:01Z</dcterms:modified>
  <cp:revision>19</cp:revision>
  <dc:subject/>
  <dc:title>Diapositiva 1</dc:title>
</cp:coreProperties>
</file>