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A8BCD-B2C7-4413-9A44-22E4E5BCB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1AE01-8FD6-41AD-9B13-B04896E3B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35536-0E5A-4E2F-A9F3-67380C51A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20D5D-EA0A-4F65-B0C5-48D759520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09A03-BA58-4EDA-9580-7711AB3C9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74FD9-BA73-499A-9E31-B7DD015B3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97AF9-872B-410B-AE02-CE5F87415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0185E-7505-41E1-A354-16D0F5144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EAED8-70FF-4675-A7B9-1ED79FF05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5D8FD-E86B-4F25-B311-E708435C9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C9841-D86F-4837-845E-1A3CEE1EC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60A1A-6AAF-4CC9-A596-E3372DB7F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F85A0-D708-41B5-8C67-0F55385AD7CB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07T08:56:12Z</dcterms:created>
  <dc:creator>Annalisa</dc:creator>
  <dc:description/>
  <dc:language>en-US</dc:language>
  <cp:lastModifiedBy>Annalisa</cp:lastModifiedBy>
  <dcterms:modified xsi:type="dcterms:W3CDTF">2013-11-07T12:00:01Z</dcterms:modified>
  <cp:revision>19</cp:revision>
  <dc:subject/>
  <dc:title>Diapositiva 1</dc:title>
</cp:coreProperties>
</file>