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392E-30C4-4A88-B785-D2F4543E0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E581-A63B-4E03-9774-27E4DD6E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1592-2720-4095-8B8E-7CC56A6CC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C647-CD21-4F34-895F-B62140A94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F526-86D0-4FF2-9970-39D46372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ADEB-237E-4EF1-BFFD-6A570021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A607-876B-473E-A1AE-D1E9ABCA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ED22-F9F3-4D53-9A13-9692FF7E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349F-064E-46AB-8E7F-B4DDF159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32FF-F27C-4C12-BAFB-B0B63687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1046-4FE1-423A-B8D7-BB6342C3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DA28-067E-4137-ABEB-4372CFAB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2627-FB8B-43ED-AEE0-98113F354F69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0:47:50Z</dcterms:created>
  <dc:creator>Silvia Frigerio</dc:creator>
  <dc:description/>
  <dc:language>en-US</dc:language>
  <cp:lastModifiedBy>Silvia Frigerio</cp:lastModifiedBy>
  <dcterms:modified xsi:type="dcterms:W3CDTF">2013-10-24T11:13:03Z</dcterms:modified>
  <cp:revision>3</cp:revision>
  <dc:subject/>
  <dc:title>Diapositiva 1</dc:title>
</cp:coreProperties>
</file>