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2582-670F-4837-B342-E73E3E3F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F877-5701-45EA-AA9C-2A9D532F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299-BE16-49C6-B449-0A0FEB46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2AFB-96BB-4445-A6A7-633AFC7E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AF9D-C334-434A-B764-A4749D6C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5CFC-2362-4B8D-A404-D8E41CD4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B852-3056-429C-9EBD-D61B919E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6913-34C7-4768-8675-682D2E23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1402-C7C6-46DC-B81D-2E32B9C8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DA1-D31D-4E88-B17F-9E153BDE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D27B-51A7-4ADF-AD37-D162C3A9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797D-5D42-4E9A-BD64-C943929C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74FA-C8F7-43D5-8CCA-2BEDE12BB34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0:47:50Z</dcterms:created>
  <dc:creator>Silvia Frigerio</dc:creator>
  <dc:description/>
  <dc:language>en-US</dc:language>
  <cp:lastModifiedBy>Silvia Frigerio</cp:lastModifiedBy>
  <dcterms:modified xsi:type="dcterms:W3CDTF">2013-10-24T11:13:03Z</dcterms:modified>
  <cp:revision>3</cp:revision>
  <dc:subject/>
  <dc:title>Diapositiva 1</dc:title>
</cp:coreProperties>
</file>