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510-8825-4647-952A-B886B730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70C-CBA5-4B03-BDA8-7D345FB7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447-6B2D-4CD3-BED7-80CF8E4D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865-44BD-4463-BF40-4E204DEA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3F8-0F3A-40A2-AEA2-FAD5B2D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88C-BB39-4749-B0CF-3307D425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957-577C-46AF-ACB7-A7C23507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793-6DCE-4C54-9BB5-7F9B8D4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12D-C83E-4E2C-9071-0437C7D3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777-43E1-4993-85AE-E4D2C66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24F-88FB-43EA-9261-7342C6D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9BB-C5FE-4DE2-A36E-40A064F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BA5C-AB65-404D-A9F6-435F2102BEC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47:50Z</dcterms:created>
  <dc:creator>Silvia Frigerio</dc:creator>
  <dc:description/>
  <dc:language>en-US</dc:language>
  <cp:lastModifiedBy>Silvia Frigerio</cp:lastModifiedBy>
  <dcterms:modified xsi:type="dcterms:W3CDTF">2013-10-24T11:13:03Z</dcterms:modified>
  <cp:revision>3</cp:revision>
  <dc:subject/>
  <dc:title>Diapositiva 1</dc:title>
</cp:coreProperties>
</file>