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0E8-51DD-45B1-855E-82F60535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B02-0C58-46DE-BA18-ABCA8BD6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7F6-4C04-47D2-A459-75E19E19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8D1-F562-40D0-83A3-D1D09211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1AB-9A58-4854-8858-CD09F6ED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8722-4DBA-4697-9138-0B0B888E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CED-00BB-419D-BF82-C47C3E9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C08-6A26-4D42-BAE9-EDD1138D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B1F-D37C-4B34-8C38-D2FBC2FE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40A-CD77-462F-99C7-694B5BA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5CB-9F99-4A92-BCBD-B1F1451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6C6-76B6-4D33-90CC-C0DC45FA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FF0-D8DF-47A4-926F-0ACF37C79F0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56:09Z</dcterms:created>
  <dc:creator>Lucry</dc:creator>
  <dc:description/>
  <dc:language>en-US</dc:language>
  <cp:lastModifiedBy>Lucry</cp:lastModifiedBy>
  <dcterms:modified xsi:type="dcterms:W3CDTF">2013-11-07T12:06:27Z</dcterms:modified>
  <cp:revision>2</cp:revision>
  <dc:subject/>
  <dc:title>Diapositiva 1</dc:title>
</cp:coreProperties>
</file>