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8B3F-6962-44F6-BFCA-CF7909808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E53E-E276-430F-8CF4-8F77AC7A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55DE-6366-4183-B75F-330D717AA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3000-EE4C-4F96-ACAE-F0B55DC9C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7FE9-589C-4F7A-9751-3D599BC8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198B-2BA0-4EF4-A2DA-A9ABF565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158E-87A4-4C03-8DF8-BE3A3310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4A16-CD05-4695-B98B-1723FDFF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9000-16FB-45C0-8DC8-454C171A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C623-0110-4224-B522-6AF79D45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864B-B15F-44AE-BBC5-94E2263B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0CF7-01E2-4D8E-AC1A-F302EDF2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4459-CEEE-4962-96FB-188667302DB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11:56:09Z</dcterms:created>
  <dc:creator>Lucry</dc:creator>
  <dc:description/>
  <dc:language>en-US</dc:language>
  <cp:lastModifiedBy>Lucry</cp:lastModifiedBy>
  <dcterms:modified xsi:type="dcterms:W3CDTF">2013-11-07T12:06:27Z</dcterms:modified>
  <cp:revision>2</cp:revision>
  <dc:subject/>
  <dc:title>Diapositiva 1</dc:title>
</cp:coreProperties>
</file>