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181-02B6-47A3-A41B-F1DFFAAB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B37-B460-4EAC-94DC-E89891F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071-C688-4111-9ACE-69CFADFC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51A-D304-4B63-9E74-EEEB371F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191-50F6-4F81-8FED-B76AB832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20E-664F-4B99-A05F-2BB9F60D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58F-647F-43D4-A0AD-BFBFBC04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182-88A8-442E-B416-62B63427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B58-F1F5-419C-A2EC-33D3DB6B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F54-081E-499D-B8CE-4AE5666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C00-AC77-4FB9-93D7-2977F15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595-6CFB-4EF8-8122-4F17EA0F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65DD-A552-40F9-9001-6EB219A1AA2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56:09Z</dcterms:created>
  <dc:creator>Lucry</dc:creator>
  <dc:description/>
  <dc:language>en-US</dc:language>
  <cp:lastModifiedBy>Lucry</cp:lastModifiedBy>
  <dcterms:modified xsi:type="dcterms:W3CDTF">2013-11-07T12:06:27Z</dcterms:modified>
  <cp:revision>2</cp:revision>
  <dc:subject/>
  <dc:title>Diapositiva 1</dc:title>
</cp:coreProperties>
</file>