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D52-DC60-4602-8F4E-7576C484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D10-1E47-4363-AF2B-E182AE49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D06-1801-4BF8-A26A-66C36FE4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594-2CFC-4A52-8185-08EFC0A3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A9E-93F6-400E-99A9-8FB590D1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CA1-65B7-45AB-828F-250A9576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F48-8F0E-438C-AA80-C37ADFF6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484-40D4-4AED-98B8-B575F72D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B0C-C9AA-400D-80AA-419AAFB6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C97-9044-4731-B8DC-29DD5DBB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CED-A71D-402C-9B6E-C313654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681-CF35-483F-B102-681905EE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AEAA-8453-4C28-A2B1-8A1BC116D0C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56:09Z</dcterms:created>
  <dc:creator>Lucry</dc:creator>
  <dc:description/>
  <dc:language>en-US</dc:language>
  <cp:lastModifiedBy>Lucry</cp:lastModifiedBy>
  <dcterms:modified xsi:type="dcterms:W3CDTF">2013-11-07T12:06:27Z</dcterms:modified>
  <cp:revision>2</cp:revision>
  <dc:subject/>
  <dc:title>Diapositiva 1</dc:title>
</cp:coreProperties>
</file>