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7F0-66F8-4B0F-B701-C02F5592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02C-3C6B-46E7-8AB7-5F7D3B76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92B-6002-417A-9983-26F3F45F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AB1-C20B-4270-ADAE-35C7DAB0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3E6-AF2F-4CB8-A1BA-1D988A49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A5-CABD-41F4-864F-AAE4C99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C71-44A2-4691-8074-26E2994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413-7C1F-483A-9DBE-A6B4E6B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7AC-99E7-4C11-B89D-5E636C4C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748-A73A-4974-B97C-6D6F25D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6B8-E0E3-4819-81EB-11AA72A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0A1-2D2A-4678-8B5B-01E0E1D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2609-4D96-41E9-B157-9F4B4E71862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56:09Z</dcterms:created>
  <dc:creator>Lucry</dc:creator>
  <dc:description/>
  <dc:language>en-US</dc:language>
  <cp:lastModifiedBy>Lucry</cp:lastModifiedBy>
  <dcterms:modified xsi:type="dcterms:W3CDTF">2013-11-07T12:06:27Z</dcterms:modified>
  <cp:revision>2</cp:revision>
  <dc:subject/>
  <dc:title>Diapositiva 1</dc:title>
</cp:coreProperties>
</file>