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FB3F-A06A-4C8E-84C8-BE25BA8BF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2AE2-A113-4574-84BE-BD7D8D651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9C0D-7A70-4EA6-904E-378AE191E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28AD-D994-4F36-B26A-0CBE745CA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E215-734E-439E-AA26-134B8D01F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8331-C425-4D23-B5BA-72AF8740E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DFE5-4223-4F70-827B-57C21FE8A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5334-3C87-4A6F-B927-EED64EBB7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F714-05DB-47A3-BB13-3D8E51F60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566D-FC1D-4C34-93EF-4834A8B5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940E-D698-4AAC-BB01-4A101300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37B3-F2FC-48DF-BDB8-41DC1493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48C99-785B-4BC7-9399-2933AAAE47E6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7T10:29:42Z</dcterms:created>
  <dc:creator>Lisa</dc:creator>
  <dc:description/>
  <dc:language>en-US</dc:language>
  <cp:lastModifiedBy>Lisa</cp:lastModifiedBy>
  <dcterms:modified xsi:type="dcterms:W3CDTF">2013-11-07T10:45:28Z</dcterms:modified>
  <cp:revision>2</cp:revision>
  <dc:subject/>
  <dc:title>Diapositiva 1</dc:title>
</cp:coreProperties>
</file>