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3C1-876D-4C8A-856A-4C652A19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DD7-FE85-4D58-ABAD-54E3BDD5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4B6-7FE6-4B75-9A8A-C8A68F69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616-2FF3-475F-996D-F859FDCF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49A-F354-4934-991A-483D5CB4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708-4FE3-434A-A38D-861415AF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00A-B502-4B97-A096-2A376831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B64-9046-4038-B0D6-3229E542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04C-E51C-44DD-A968-A0534F0B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796-25AA-48D4-9B63-8B272BC5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F99-A3FD-4CAC-AF94-48DF9014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3CF-9492-4CB7-99AC-5215D09F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CEE6-8032-44A3-9ADB-A6D27BE985E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0:29:42Z</dcterms:created>
  <dc:creator>Lisa</dc:creator>
  <dc:description/>
  <dc:language>en-US</dc:language>
  <cp:lastModifiedBy>Lisa</cp:lastModifiedBy>
  <dcterms:modified xsi:type="dcterms:W3CDTF">2013-11-07T10:45:28Z</dcterms:modified>
  <cp:revision>2</cp:revision>
  <dc:subject/>
  <dc:title>Diapositiva 1</dc:title>
</cp:coreProperties>
</file>