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E4E-E779-4BC2-99F8-4D88D454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810B-D02F-4EFC-8434-1FF063A5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57E-1805-4421-82E3-4FDEC8D0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B384-32B4-4940-B02B-3CAD9045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A63-0501-4604-A4B6-ECBF750F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E4A7-EE7B-48F9-BFFD-DFD6B1A5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77BA-97FB-40BB-8899-C222B080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469E-3A8D-4948-967F-A972323D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C8C0-0E08-428C-AC50-83DA3DA3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809-A139-423F-8FDE-8DFFB72D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AD5-D215-497E-8C01-C6A01ECC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993-6CFC-4BB9-A109-E19FFFD2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DE24-C375-465C-8637-3690AA53335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0:29:42Z</dcterms:created>
  <dc:creator>Lisa</dc:creator>
  <dc:description/>
  <dc:language>en-US</dc:language>
  <cp:lastModifiedBy>Lisa</cp:lastModifiedBy>
  <dcterms:modified xsi:type="dcterms:W3CDTF">2013-11-07T10:45:28Z</dcterms:modified>
  <cp:revision>2</cp:revision>
  <dc:subject/>
  <dc:title>Diapositiva 1</dc:title>
</cp:coreProperties>
</file>