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04C-F2FE-4C78-AF21-ECC5A3F3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375-6162-47DE-9652-51278AB6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074-E1AE-458D-8225-E4327932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01D-852D-452E-AC24-598B11A2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E45-B120-45AF-A38F-EDBEC11F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1A5-50EE-4A2F-8E74-C453DEB1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822-9B70-480C-9B42-F2A9C81B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9DD-42F2-42A9-847C-B883ED11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58B-72EA-41F5-B56E-624EEAF9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22C-DA3B-4BDA-96D1-6C24D224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85C-FEE6-4797-B9CF-CBE99664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6D7-4536-4A13-80E8-E7AA3D1E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5AF0-1889-47AC-A700-C4BE0DD8CF5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29:42Z</dcterms:created>
  <dc:creator>Lisa</dc:creator>
  <dc:description/>
  <dc:language>en-US</dc:language>
  <cp:lastModifiedBy>Lisa</cp:lastModifiedBy>
  <dcterms:modified xsi:type="dcterms:W3CDTF">2013-11-07T10:45:28Z</dcterms:modified>
  <cp:revision>2</cp:revision>
  <dc:subject/>
  <dc:title>Diapositiva 1</dc:title>
</cp:coreProperties>
</file>