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E6D7-83A5-4D31-BA3A-4E71B6FD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B11-1211-4471-B415-DA4A74D2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FD5A-2042-49B8-895C-F5728379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D73-B0D3-48D0-86F0-C67B4160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8C8-13DD-4A1E-8E00-48BF1E19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6D9-4C7D-41E8-8742-1DF403C8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085E-0446-4CBA-8BDD-4459A265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ACBC-2C5B-487B-B9AF-91F8045A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F98-6D4D-4729-91E5-25BD9A27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2E28-C665-4831-9854-A2104BA0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EB3D-9B53-4D11-8C7D-0B93817B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C8CB-D746-4A25-8615-8D131E2D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B8E8-7703-489E-BF43-FCBABB80144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0:29:42Z</dcterms:created>
  <dc:creator>Lisa</dc:creator>
  <dc:description/>
  <dc:language>en-US</dc:language>
  <cp:lastModifiedBy>Lisa</cp:lastModifiedBy>
  <dcterms:modified xsi:type="dcterms:W3CDTF">2013-11-07T10:45:28Z</dcterms:modified>
  <cp:revision>2</cp:revision>
  <dc:subject/>
  <dc:title>Diapositiva 1</dc:title>
</cp:coreProperties>
</file>