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C36-5817-41FB-9942-816A7E17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96F-7810-4E45-A48B-851E4E37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706-2EA2-4309-A114-3501250D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650-6B79-4D50-B21F-FF8B895D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E48-4076-45B8-B75C-7E33D6C0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EAC-DEA2-4C7E-9F08-29E96A48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B80-48F1-411F-9986-A6B049D8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134-D616-4055-9E03-FAE54859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CFC-AD6F-485E-A0A4-51F49A83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069-BAA2-476C-8A54-B415B4F7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A22-1F9E-473D-9A81-C3DEF508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E57-8FA6-4556-BAD7-082CB63C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A67E-6EDE-45FA-917B-1ACA663B4BC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29:42Z</dcterms:created>
  <dc:creator>Lisa</dc:creator>
  <dc:description/>
  <dc:language>en-US</dc:language>
  <cp:lastModifiedBy>Lisa</cp:lastModifiedBy>
  <dcterms:modified xsi:type="dcterms:W3CDTF">2013-11-07T10:45:28Z</dcterms:modified>
  <cp:revision>2</cp:revision>
  <dc:subject/>
  <dc:title>Diapositiva 1</dc:title>
</cp:coreProperties>
</file>