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54BC-2742-4F90-850A-0588608D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171D-0CEA-4E8D-8C3C-A0148CCB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26D3-DA6D-4063-B4D8-15518F87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2D3E-C9CD-48C7-BDBB-103ED53D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06E7-7A11-4083-8DF5-4BF7F5E7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1E69-06F6-4F6A-BFDB-40ABB389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8FC5-D8E5-49FD-BC8D-D8800B4F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CDEF-84C3-44FB-9F20-3518C193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CC3-AEDC-44A8-8CE2-13E7E202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8882-F297-41B6-B004-EA0EE6F2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A68F-817F-4E90-AA9C-3FDB471E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92DE-B35A-4A8A-9B8C-E4BC64A4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DEA3-5565-4E79-BEE7-5C0C4E7BFD6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0:29:42Z</dcterms:created>
  <dc:creator>Lisa</dc:creator>
  <dc:description/>
  <dc:language>en-US</dc:language>
  <cp:lastModifiedBy>Lisa</cp:lastModifiedBy>
  <dcterms:modified xsi:type="dcterms:W3CDTF">2013-11-07T10:45:28Z</dcterms:modified>
  <cp:revision>2</cp:revision>
  <dc:subject/>
  <dc:title>Diapositiva 1</dc:title>
</cp:coreProperties>
</file>