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AC80-8AD3-4BB0-86E3-ED5A044C1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9F7B-BC8A-4BEF-99E7-E950C97D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0522-C1D0-4EA5-8868-AD3C2266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29FE-3BE5-4EC2-A36D-431111AA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DAA4-3D93-43DC-8584-E37FCCB1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CE05-10CB-42B2-A974-42906C2A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5D32-A19F-4B89-8751-4AB848C6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66AA-6EC0-49B4-8319-43BF08ED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8B8D-CE87-4AF9-896A-BA9F3271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E64B-3012-4D84-ADC3-2C8F5809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804B-4FF8-4C18-A458-417B6AFE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B0D8-5789-4403-AF64-3D78006C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0B60-5EAD-4FFD-85F0-1BA7334F8B8C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Home\Desktop\Cattura.JPG"/>
          <p:cNvPicPr/>
          <p:nvPr/>
        </p:nvPicPr>
        <p:blipFill>
          <a:blip r:embed="rId1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Home\Desktop\Cattura 2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Home\Desktop\Cattura 3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Home\Desktop\Cattura 4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Home\Desktop\Cattura 5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Home\Desktop\Cattura 6.JPG"/>
          <p:cNvPicPr/>
          <p:nvPr/>
        </p:nvPicPr>
        <p:blipFill>
          <a:blip r:embed="rId2"/>
          <a:stretch/>
        </p:blipFill>
        <p:spPr>
          <a:xfrm>
            <a:off x="-1933560" y="-22860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10:12:55Z</dcterms:created>
  <dc:creator>Home</dc:creator>
  <dc:description/>
  <dc:language>en-US</dc:language>
  <cp:lastModifiedBy>Home</cp:lastModifiedBy>
  <dcterms:modified xsi:type="dcterms:W3CDTF">2013-10-17T10:20:08Z</dcterms:modified>
  <cp:revision>1</cp:revision>
  <dc:subject/>
  <dc:title>Diapositiva 1</dc:title>
</cp:coreProperties>
</file>