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DE0E-486D-41FA-B8B8-9AF6F1A13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2A20-E2CA-476E-BA5B-E9F9540FD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5B13-0F4A-4635-8371-A76F5FCC1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CBE9-8709-4CFD-BE73-DC0F982BC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6D09-BE28-4738-A4B5-DF1ADBBE9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9C0E-2068-46AC-B836-5776669F5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1C9C-25E3-4B50-B85F-8D60641E2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FCDA-2DD7-4EC1-87CF-21E531228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2C59-B44C-4953-993B-A34214AD1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7833-6F5F-41A2-B771-5FBEE295E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60B5-2688-4B5A-87A3-474EDE82A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A764-BEB9-458B-9F2E-76B71C8A8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F9051-DD7F-4266-92E2-67FA8A112AA4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C:\Users\Home\Desktop\Cattura.JPG"/>
          <p:cNvPicPr/>
          <p:nvPr/>
        </p:nvPicPr>
        <p:blipFill>
          <a:blip r:embed="rId1"/>
          <a:stretch/>
        </p:blipFill>
        <p:spPr>
          <a:xfrm>
            <a:off x="-1933560" y="-22860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C:\Users\Home\Desktop\Cattura 2.JPG"/>
          <p:cNvPicPr/>
          <p:nvPr/>
        </p:nvPicPr>
        <p:blipFill>
          <a:blip r:embed="rId2"/>
          <a:stretch/>
        </p:blipFill>
        <p:spPr>
          <a:xfrm>
            <a:off x="-1933560" y="-22860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C:\Users\Home\Desktop\Cattura 3.JPG"/>
          <p:cNvPicPr/>
          <p:nvPr/>
        </p:nvPicPr>
        <p:blipFill>
          <a:blip r:embed="rId2"/>
          <a:stretch/>
        </p:blipFill>
        <p:spPr>
          <a:xfrm>
            <a:off x="-1933560" y="-22860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Users\Home\Desktop\Cattura 4.JPG"/>
          <p:cNvPicPr/>
          <p:nvPr/>
        </p:nvPicPr>
        <p:blipFill>
          <a:blip r:embed="rId2"/>
          <a:stretch/>
        </p:blipFill>
        <p:spPr>
          <a:xfrm>
            <a:off x="-1933560" y="-22860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C:\Users\Home\Desktop\Cattura 5.JPG"/>
          <p:cNvPicPr/>
          <p:nvPr/>
        </p:nvPicPr>
        <p:blipFill>
          <a:blip r:embed="rId2"/>
          <a:stretch/>
        </p:blipFill>
        <p:spPr>
          <a:xfrm>
            <a:off x="-1933560" y="-22860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C:\Users\Home\Desktop\Cattura 6.JPG"/>
          <p:cNvPicPr/>
          <p:nvPr/>
        </p:nvPicPr>
        <p:blipFill>
          <a:blip r:embed="rId2"/>
          <a:stretch/>
        </p:blipFill>
        <p:spPr>
          <a:xfrm>
            <a:off x="-1933560" y="-22860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7T10:12:55Z</dcterms:created>
  <dc:creator>Home</dc:creator>
  <dc:description/>
  <dc:language>en-US</dc:language>
  <cp:lastModifiedBy>Home</cp:lastModifiedBy>
  <dcterms:modified xsi:type="dcterms:W3CDTF">2013-10-17T10:20:08Z</dcterms:modified>
  <cp:revision>1</cp:revision>
  <dc:subject/>
  <dc:title>Diapositiva 1</dc:title>
</cp:coreProperties>
</file>