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5E72-FABF-4B5B-A987-D7B1A591BF4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0015-24F4-4391-A082-8444AE2A389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21F2-D401-47BE-A63E-ED5491F1884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7E59-D34D-4430-B04F-74F2CACC196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CF2B-EFA7-4679-92C9-333390A1345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6A4A-9A1B-4260-80D8-DE62895CB5B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BA12-1AFD-4BB3-B875-EC06E0897F8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8B1B-359B-4E45-B917-E693C557D02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3CCD-A52C-46FC-84FF-77C743A8C89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26E-D6DA-4C40-9186-4A03B560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05B-5298-4913-B0B6-D5CA6CF6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D1E-0871-45FB-AE02-B41FB908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F2B-BF91-40F2-BD46-A681D13F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98D6-C8CC-44AD-81CE-E4F8AE54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1C8-B77F-4015-AF3F-90B14862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CE2-7ABD-4956-83DC-D062EF5E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714-B3A1-47A9-852B-49240AEE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B58-F10E-49FC-A1DB-2A35CBDB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406-809A-4760-9B19-EA32378B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F1A-9AE3-4DDA-A4A8-38A441E4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B3D-1EE5-442B-A93E-ACF0EACD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9D5E-5346-468F-BF4F-F9E542EFEC4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1:12:54Z</dcterms:created>
  <dc:creator>zarconeivana</dc:creator>
  <dc:description/>
  <dc:language>en-US</dc:language>
  <cp:lastModifiedBy>zarconeivana</cp:lastModifiedBy>
  <dcterms:modified xsi:type="dcterms:W3CDTF">2013-11-07T11:27:52Z</dcterms:modified>
  <cp:revision>8</cp:revision>
  <dc:subject/>
  <dc:title>Diapositiva 1</dc:title>
</cp:coreProperties>
</file>