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AE32-B1E8-4EF0-B72B-1AFDD4998F0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7DE0-CD7E-47CC-864C-FEEEAA3EBFE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1611-D33A-4D81-8EDD-64D8B0AFCA7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3A49-62FC-4065-9BDC-4131354FD2F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49EB-0E10-47F3-B829-595680EEAC0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BD65-53DB-44CC-AFEC-ED533EE3CAA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1853-ACB5-46A4-A8AD-CC5663D1A1B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E5EE-8A21-458A-AE43-E04CE9995AB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2495-5139-4648-8594-6BA35E56D24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386-80E9-48CF-820F-67F988C7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079-2E6E-45B4-9F2A-CC49389F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FCC-E71E-4856-8F08-1B90652A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22C-A56B-4FCF-823B-50DF40EA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984-78BE-4517-B161-0DC07C80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3F10-C79B-414D-8331-8F0A30B6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0DF-ACCE-49F5-8856-A355F071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18B-FA97-43FC-91C7-D88CF0A4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F83-E2F0-4178-8FB7-D6B33D52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32C-173C-47AC-BAD8-BBDDEBDD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5AD-AC5D-4305-8887-47F357FF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970-7C79-4166-A600-247127B5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5103-492E-4A63-A4C7-789A84D72BA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1:12:54Z</dcterms:created>
  <dc:creator>zarconeivana</dc:creator>
  <dc:description/>
  <dc:language>en-US</dc:language>
  <cp:lastModifiedBy>zarconeivana</cp:lastModifiedBy>
  <dcterms:modified xsi:type="dcterms:W3CDTF">2013-11-07T11:27:52Z</dcterms:modified>
  <cp:revision>8</cp:revision>
  <dc:subject/>
  <dc:title>Diapositiva 1</dc:title>
</cp:coreProperties>
</file>