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08D8-FDEB-4A21-AE6D-8D662E6632B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91E3-45AA-47A1-BA37-B957B2CAD3F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C212-8176-465F-9EF8-C68B169C819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348E-764E-4C65-A1AA-0536D4BF4A5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DFF4-04FD-46DC-97F5-ACB819800E6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93F0-6FF9-49E5-871A-FDBAAB27C3C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DC33-A299-4162-A5C4-7002AE9CA1A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5631-DAFB-4217-8E20-9E36AB05E9B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6207-14B9-4BC9-958F-D6C3A7E3238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FAB-62E6-46C9-BD97-C0004332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716-119D-4A36-997A-E404E8F0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F9A-B293-4D55-A10A-CAD5344C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348-05EA-4498-93E1-76E84103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99A-C913-46B1-86B8-BBC2B240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425-BD34-485E-8A2B-A7825782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A04-C7DA-4F11-B83B-FFBC77C6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D9D-67E5-442B-9C71-B565EA5D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0BD-B3C9-4127-BB71-B7AC9B40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0A5-9FF1-41D7-B26C-6C3D27A4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DDB-EB4C-4BDF-97EB-3CF859A4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FD3-1741-41D5-9835-BE805644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A76B-2A52-4E0D-849F-36910DF3939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12:54Z</dcterms:created>
  <dc:creator>zarconeivana</dc:creator>
  <dc:description/>
  <dc:language>en-US</dc:language>
  <cp:lastModifiedBy>zarconeivana</cp:lastModifiedBy>
  <dcterms:modified xsi:type="dcterms:W3CDTF">2013-11-07T11:27:52Z</dcterms:modified>
  <cp:revision>8</cp:revision>
  <dc:subject/>
  <dc:title>Diapositiva 1</dc:title>
</cp:coreProperties>
</file>