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785-2EED-4D1D-BB73-59986747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719-22B8-47A0-8FA9-6125B7CE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EEE-3322-4F21-92F9-A5C3C6A7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B56-0B5D-472A-9E50-222A3884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F33-B400-4462-9FB2-1FE7C94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F0B-BE1B-4B6B-86F6-E88EA30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C45-42E0-44B3-A1EE-7A819DF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01C-4A53-485C-9F90-09D8C764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14F-8ECB-46F5-80A5-091C5D5F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B66-3922-4845-B3A7-13B24D1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713-4342-4FC7-9E41-E9D1B953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04F-3ADC-438D-BF86-B9121FB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867-DEC2-4493-86CE-944AD62FC56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70036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2844720" y="404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277344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773440" y="4762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275112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2773440" y="6206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2773440" y="333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2822400" y="506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-2751120" y="21744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277344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2773440" y="1890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-147636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060720" y="-17136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2822400" y="-10008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284472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2822400" y="1159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2822400" y="29052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8:15:34Z</dcterms:created>
  <dc:creator>meli</dc:creator>
  <dc:description/>
  <dc:language>en-US</dc:language>
  <cp:lastModifiedBy>meli</cp:lastModifiedBy>
  <dcterms:modified xsi:type="dcterms:W3CDTF">2013-10-13T18:11:30Z</dcterms:modified>
  <cp:revision>26</cp:revision>
  <dc:subject/>
  <dc:title>Diapositiva 1</dc:title>
</cp:coreProperties>
</file>