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C2A-382C-4430-BFE9-829DBE5F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B9C-2F79-44FC-9318-D20A0FA5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439-2F96-4041-B957-023E4CD4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CDB-E424-48CF-B68F-BC4DFBEA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623-412E-4430-8A4E-7CAB48EF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F74-374D-4F44-8FF4-F136BA36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EDB-C606-4EF9-AE21-07483F02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F54-731E-42A2-BE68-657043B8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11C-B075-4F59-A7EF-CBD14CBC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7CD-FD6B-4F49-AF85-147F5C79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079-5D11-43DD-B867-5B1E75C6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D37-AA45-4B9C-A140-BB2713E0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C0A8-1359-4AB4-86A9-3AF69EEB4AC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70036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284472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277344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275112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2773440" y="620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-2773440" y="333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282240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-2751120" y="2174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-2773440" y="1890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-147636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06072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2822400" y="-1000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284472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282240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2822400" y="290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8:15:34Z</dcterms:created>
  <dc:creator>meli</dc:creator>
  <dc:description/>
  <dc:language>en-US</dc:language>
  <cp:lastModifiedBy>meli</cp:lastModifiedBy>
  <dcterms:modified xsi:type="dcterms:W3CDTF">2013-10-13T18:11:30Z</dcterms:modified>
  <cp:revision>26</cp:revision>
  <dc:subject/>
  <dc:title>Diapositiva 1</dc:title>
</cp:coreProperties>
</file>