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9693-CA8D-4320-9F88-BDDA7FF95C3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87D5-2106-48C3-95C5-3B0123345CA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8E15-982B-46CB-AC13-5AF0579278A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DFF3-5CE3-456E-8E26-CC92D34B867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E78B-10E9-458B-8A6B-B2F3256DBE6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978E-CE1B-4D94-8AA3-84E6C05E03E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0690-E576-4DD6-8EC9-32AB4595A2B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4F2D-8F21-45DB-9A6A-E1D322A4C9B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FA24-946D-4C71-87BC-F844EB7AEDF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B602-D64C-4946-A5FC-889B896A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4CD5-4E1E-4BC3-8DE7-F9371280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F0F2-59AA-423C-A720-3524EBD8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EDB5-19AD-4A7E-BE17-8C3161C1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69BE-5D2B-4A50-8E4E-C610FB4F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75BF-1CDF-4F66-B0D0-00505109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7E39-E3A3-4C9F-9DD4-37DAF605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B4FA-D804-480C-9E5F-74165BDE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9ABC-8CCC-458B-BD4C-E4FFB47D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4307-AFAF-4350-81CC-4C77212D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2AB3-E4E2-45CD-B4EB-0C7C51F0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4D91-F73C-4DDF-9948-68F1C22D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6E8C-D433-488A-BCAB-4BAD8703336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1:12:54Z</dcterms:created>
  <dc:creator>zarconeivana</dc:creator>
  <dc:description/>
  <dc:language>en-US</dc:language>
  <cp:lastModifiedBy>zarconeivana</cp:lastModifiedBy>
  <dcterms:modified xsi:type="dcterms:W3CDTF">2013-11-07T11:27:52Z</dcterms:modified>
  <cp:revision>8</cp:revision>
  <dc:subject/>
  <dc:title>Diapositiva 1</dc:title>
</cp:coreProperties>
</file>