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38F57-4231-4BF0-BBC9-52777E206DE6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BC78E-7B45-4991-B99E-EDFE1AAE5686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C7D8B-17FD-4FA0-B1C9-C348F688E25D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1D184-3060-49EA-9635-4D382286E2FD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44623-FF9B-4DDA-B1CC-22C5AC316A46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DBA4B-7B25-4DC2-82CE-4951F0844B04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F42BA-C96E-46F9-8B71-39B7EA4BCE70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DEF56-35B6-4BA1-B5A4-7CE067DE10E5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EF4A-F2BE-4FCB-84EF-D25911565AC1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8EEF-0B23-40AA-B39A-033D35574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CABF-BE76-47CE-BCA4-48460AFA6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CEFA-5219-4405-B6BD-7E24627F1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2F30-3F5D-4E04-B2BF-18BBD8367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56E0-EBF1-4ECB-BB10-849C172B1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8491-2A5C-47EB-BB4C-C1475C9C1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CC15-A0FD-44DC-8C4F-EB86CA157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52C1-042B-439F-A231-20367A378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E193-B2DD-46FE-8E46-F8C569A9E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D226-CA55-4060-94EB-25D74CD2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D31C-52BB-4E52-9A7F-DB3B25D0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23A0-D5FB-4B70-B574-DB4214AB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35F07-C67D-42F7-B1EF-C5BABDADDA77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7T11:12:54Z</dcterms:created>
  <dc:creator>zarconeivana</dc:creator>
  <dc:description/>
  <dc:language>en-US</dc:language>
  <cp:lastModifiedBy>zarconeivana</cp:lastModifiedBy>
  <dcterms:modified xsi:type="dcterms:W3CDTF">2013-11-07T11:27:52Z</dcterms:modified>
  <cp:revision>8</cp:revision>
  <dc:subject/>
  <dc:title>Diapositiva 1</dc:title>
</cp:coreProperties>
</file>