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86D0-FB9C-4754-AD12-9E3A517DE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D5E7-5C1D-4B4F-94B4-C88EF53B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3C43-E523-494B-8292-2632CDF50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AD2D-6973-44FB-9F70-613906901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F347-C146-4CA4-8FD9-BC57B9D6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2056-AC0F-42BA-A215-5C1EB762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A803-2BEF-4F8A-B346-139E9D2E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4BC9-D52A-4E7B-A406-EDEF99EC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85A1-4691-4DDA-AF86-4314CE13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2A88-6C42-40F2-B0C7-BF85A0B7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DBAB-A7FB-4805-9781-98A3FA8B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C942-58E0-4B2C-8DE9-319CDE6A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D97B-E860-4D5B-B3E7-46E5AA4605BC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-2700360" y="40464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-2844720" y="40464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-2773440" y="50652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-2773440" y="47628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-2773440" y="47628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-2751120" y="50652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-2773440" y="62064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-2773440" y="11592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-2773440" y="33336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-2822400" y="50652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-2751120" y="21744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-2773440" y="11592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-2773440" y="1890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-1476360" y="-17136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-3060720" y="-17136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-2822400" y="-10008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-2844720" y="11592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-2822400" y="11592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-2822400" y="29052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0T08:15:34Z</dcterms:created>
  <dc:creator>meli</dc:creator>
  <dc:description/>
  <dc:language>en-US</dc:language>
  <cp:lastModifiedBy>meli</cp:lastModifiedBy>
  <dcterms:modified xsi:type="dcterms:W3CDTF">2013-10-13T18:11:30Z</dcterms:modified>
  <cp:revision>26</cp:revision>
  <dc:subject/>
  <dc:title>Diapositiva 1</dc:title>
</cp:coreProperties>
</file>