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3A4D-9BBE-4784-AA7C-84CADDA3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490-362D-41AD-8469-0D8C8A23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946-DF25-4303-818F-AD072EE4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33EB-063A-45BA-ACDA-A94CC195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4F67-9A22-43E9-9AD3-3D7AE36F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BCF-24FF-44EE-9922-630B1593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FD0-A82A-4169-9FA4-DE22F332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97C-98DC-4C8C-BF14-CFB950F3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AACE-3F64-41BA-9558-07624E9A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01F-2A78-4A61-B7CA-509734E5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E670-C193-4B6A-9678-3986D04F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7364-7FC5-4C25-8171-281D16FA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C901-076B-4B29-BDBB-AF673EDBAFB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-2700360" y="404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2844720" y="404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277344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-2773440" y="4762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-2773440" y="4762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275112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2773440" y="620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277344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-2773440" y="333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-282240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-2751120" y="2174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-277344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-2773440" y="1890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-1476360" y="-171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060720" y="-171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2822400" y="-1000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-284472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282240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-2822400" y="290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8:15:34Z</dcterms:created>
  <dc:creator>meli</dc:creator>
  <dc:description/>
  <dc:language>en-US</dc:language>
  <cp:lastModifiedBy>meli</cp:lastModifiedBy>
  <dcterms:modified xsi:type="dcterms:W3CDTF">2013-10-13T18:11:30Z</dcterms:modified>
  <cp:revision>26</cp:revision>
  <dc:subject/>
  <dc:title>Diapositiva 1</dc:title>
</cp:coreProperties>
</file>