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14C-5833-4548-8EB4-E4594519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0D5-3D8F-4EA6-8561-7E37BFE1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CD10-4D9B-48FD-994C-41C822CF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BB6-E98C-43AE-B9FE-C2E34ECD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72F-7248-4BE6-B00E-E7542284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E97-C5A7-4325-94AA-2FE4E54B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A36-E63D-458C-B965-734BDDF0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AF6-F690-4C13-9DA2-0A810304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B2B-078F-4227-92B5-FC56C09C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856-0F5C-42A4-B2ED-9EA4CC46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26E-BE0B-4B4D-8DAF-A87F7E95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AD1-4E7A-4F42-8C00-D8B20BB9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B215-66B8-4F68-A8B0-12AE65DFFDE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ome\Desktop\Cattura.JPG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Home\Desktop\Cattura 2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Home\Desktop\Cattura 3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ome\Desktop\Cattura 4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ome\Desktop\Cattura 5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ome\Desktop\Cattura 6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12:55Z</dcterms:created>
  <dc:creator>Home</dc:creator>
  <dc:description/>
  <dc:language>en-US</dc:language>
  <cp:lastModifiedBy>Home</cp:lastModifiedBy>
  <dcterms:modified xsi:type="dcterms:W3CDTF">2013-10-17T10:20:08Z</dcterms:modified>
  <cp:revision>1</cp:revision>
  <dc:subject/>
  <dc:title>Diapositiva 1</dc:title>
</cp:coreProperties>
</file>