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B4B2F-CCCD-45E9-A331-338D90A17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94675-71BA-488A-B658-9C85C1897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D15B6-233F-47D2-8457-6D8CF5079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905CF-F268-42ED-86FA-699F2B83F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D7365-A7FA-45B1-989F-FB3DBD24D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C6A67-D5CF-45CB-A0CE-F7BE6BC81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688C6-5CF7-401F-9141-DEED571E3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9A285-99B1-406D-A31F-11D700C86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8F0D6-A660-44B6-ADE8-1DD19E1E2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A8463-EE53-4011-8C7F-A7E2F8F25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67DA8-B1E7-4D3B-B0C2-6B4D80EC6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2320D-8B46-4F20-9463-B3D0F0FA0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C7405-886A-44B7-982B-A487F8A8B1E6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2" descr="C:\Users\Home\Desktop\Cattura.JPG"/>
          <p:cNvPicPr/>
          <p:nvPr/>
        </p:nvPicPr>
        <p:blipFill>
          <a:blip r:embed="rId1"/>
          <a:stretch/>
        </p:blipFill>
        <p:spPr>
          <a:xfrm>
            <a:off x="-1933560" y="-228600"/>
            <a:ext cx="1301112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" descr="C:\Users\Home\Desktop\Cattura 2.JPG"/>
          <p:cNvPicPr/>
          <p:nvPr/>
        </p:nvPicPr>
        <p:blipFill>
          <a:blip r:embed="rId2"/>
          <a:stretch/>
        </p:blipFill>
        <p:spPr>
          <a:xfrm>
            <a:off x="-1933560" y="-228600"/>
            <a:ext cx="1301112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" descr="C:\Users\Home\Desktop\Cattura 3.JPG"/>
          <p:cNvPicPr/>
          <p:nvPr/>
        </p:nvPicPr>
        <p:blipFill>
          <a:blip r:embed="rId2"/>
          <a:stretch/>
        </p:blipFill>
        <p:spPr>
          <a:xfrm>
            <a:off x="-1933560" y="-228600"/>
            <a:ext cx="1301112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C:\Users\Home\Desktop\Cattura 4.JPG"/>
          <p:cNvPicPr/>
          <p:nvPr/>
        </p:nvPicPr>
        <p:blipFill>
          <a:blip r:embed="rId2"/>
          <a:stretch/>
        </p:blipFill>
        <p:spPr>
          <a:xfrm>
            <a:off x="-1933560" y="-228600"/>
            <a:ext cx="1301112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" descr="C:\Users\Home\Desktop\Cattura 5.JPG"/>
          <p:cNvPicPr/>
          <p:nvPr/>
        </p:nvPicPr>
        <p:blipFill>
          <a:blip r:embed="rId2"/>
          <a:stretch/>
        </p:blipFill>
        <p:spPr>
          <a:xfrm>
            <a:off x="-1933560" y="-228600"/>
            <a:ext cx="1301112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" descr="C:\Users\Home\Desktop\Cattura 6.JPG"/>
          <p:cNvPicPr/>
          <p:nvPr/>
        </p:nvPicPr>
        <p:blipFill>
          <a:blip r:embed="rId2"/>
          <a:stretch/>
        </p:blipFill>
        <p:spPr>
          <a:xfrm>
            <a:off x="-1933560" y="-228600"/>
            <a:ext cx="1301112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7T10:12:55Z</dcterms:created>
  <dc:creator>Home</dc:creator>
  <dc:description/>
  <dc:language>en-US</dc:language>
  <cp:lastModifiedBy>Home</cp:lastModifiedBy>
  <dcterms:modified xsi:type="dcterms:W3CDTF">2013-10-17T10:20:08Z</dcterms:modified>
  <cp:revision>1</cp:revision>
  <dc:subject/>
  <dc:title>Diapositiva 1</dc:title>
</cp:coreProperties>
</file>